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EDD0-4AE1-449A-97EE-0DFAA17E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2AA-B6BA-4D0F-816C-09BB3AA4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A7C3-729E-46E6-BF0A-ACCE4673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BA7-9794-49FF-8303-0EAE3F27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9195-81F8-461C-92C0-DC887CA6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D24B-8E40-4FE7-AE92-1632F047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3F12-2BA7-4708-8502-B07A8135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4EE-6F17-4923-87EA-EE130846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B51-43E9-4F3D-8014-A6FE7D9C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498-C693-4373-A228-7CCF5143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AD6-693A-4706-8C8C-CF702624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F66-01E2-4A2A-9B31-5D0F1180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DF87-E600-48A5-8E0A-87E1143EC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3280" y="2060640"/>
            <a:ext cx="1297080" cy="360360"/>
          </a:xfrm>
          <a:custGeom>
            <a:avLst/>
            <a:gdLst/>
            <a:ahLst/>
            <a:rect l="l" t="t" r="r" b="b"/>
            <a:pathLst>
              <a:path w="817" h="272">
                <a:moveTo>
                  <a:pt x="817" y="0"/>
                </a:moveTo>
                <a:lnTo>
                  <a:pt x="817" y="136"/>
                </a:lnTo>
                <a:lnTo>
                  <a:pt x="0" y="136"/>
                </a:lnTo>
                <a:lnTo>
                  <a:pt x="0" y="2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43280" y="2060640"/>
            <a:ext cx="4753080" cy="1655640"/>
          </a:xfrm>
          <a:custGeom>
            <a:avLst/>
            <a:gdLst/>
            <a:ahLst/>
            <a:rect l="l" t="t" r="r" b="b"/>
            <a:pathLst>
              <a:path w="2994" h="1043">
                <a:moveTo>
                  <a:pt x="0" y="1043"/>
                </a:moveTo>
                <a:lnTo>
                  <a:pt x="0" y="681"/>
                </a:lnTo>
                <a:lnTo>
                  <a:pt x="2994" y="681"/>
                </a:lnTo>
                <a:lnTo>
                  <a:pt x="299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2060640"/>
            <a:ext cx="2592360" cy="863640"/>
          </a:xfrm>
          <a:custGeom>
            <a:avLst/>
            <a:gdLst/>
            <a:ahLst/>
            <a:rect l="l" t="t" r="r" b="b"/>
            <a:pathLst>
              <a:path w="1633" h="544">
                <a:moveTo>
                  <a:pt x="1633" y="0"/>
                </a:moveTo>
                <a:lnTo>
                  <a:pt x="1633" y="544"/>
                </a:lnTo>
                <a:lnTo>
                  <a:pt x="0" y="544"/>
                </a:lnTo>
                <a:lnTo>
                  <a:pt x="0" y="2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40360" y="3716280"/>
            <a:ext cx="431640" cy="360360"/>
          </a:xfrm>
          <a:custGeom>
            <a:avLst/>
            <a:gdLst/>
            <a:ahLst/>
            <a:rect l="l" t="t" r="r" b="b"/>
            <a:pathLst>
              <a:path w="272" h="227">
                <a:moveTo>
                  <a:pt x="272" y="227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254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64360" y="206064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206064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00720" y="206064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206064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206064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206064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4360" y="371628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371628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371628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371628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371628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71628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3789360"/>
            <a:ext cx="0" cy="3603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835280" y="2276640"/>
            <a:ext cx="2446200" cy="287280"/>
            <a:chOff x="1835280" y="2276640"/>
            <a:chExt cx="2446200" cy="287280"/>
          </a:xfrm>
        </p:grpSpPr>
        <p:sp>
          <p:nvSpPr>
            <p:cNvPr id="59" name=""/>
            <p:cNvSpPr/>
            <p:nvPr/>
          </p:nvSpPr>
          <p:spPr>
            <a:xfrm>
              <a:off x="183528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66920" y="227664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9892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3056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6256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9420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859280" y="2276640"/>
            <a:ext cx="2446200" cy="287280"/>
            <a:chOff x="4859280" y="2276640"/>
            <a:chExt cx="2446200" cy="287280"/>
          </a:xfrm>
        </p:grpSpPr>
        <p:sp>
          <p:nvSpPr>
            <p:cNvPr id="66" name=""/>
            <p:cNvSpPr/>
            <p:nvPr/>
          </p:nvSpPr>
          <p:spPr>
            <a:xfrm>
              <a:off x="485928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90920" y="227664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2292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5456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8656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18200" y="227664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835280" y="3573360"/>
            <a:ext cx="2446200" cy="287280"/>
            <a:chOff x="1835280" y="3573360"/>
            <a:chExt cx="2446200" cy="287280"/>
          </a:xfrm>
        </p:grpSpPr>
        <p:sp>
          <p:nvSpPr>
            <p:cNvPr id="73" name=""/>
            <p:cNvSpPr/>
            <p:nvPr/>
          </p:nvSpPr>
          <p:spPr>
            <a:xfrm>
              <a:off x="183528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66920" y="357336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9892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3056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6256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420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859280" y="3573360"/>
            <a:ext cx="2446200" cy="287280"/>
            <a:chOff x="4859280" y="3573360"/>
            <a:chExt cx="2446200" cy="287280"/>
          </a:xfrm>
        </p:grpSpPr>
        <p:sp>
          <p:nvSpPr>
            <p:cNvPr id="80" name=""/>
            <p:cNvSpPr/>
            <p:nvPr/>
          </p:nvSpPr>
          <p:spPr>
            <a:xfrm>
              <a:off x="485928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0920" y="3573360"/>
              <a:ext cx="287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2292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5456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8656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8200" y="357336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88360" y="256536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2565360"/>
            <a:ext cx="42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80000" y="2565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2565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43640" y="2565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5640" y="2565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31560" y="32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8360" y="3284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3284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C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0" y="3284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43640" y="3284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75640" y="3284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564000" y="1916280"/>
            <a:ext cx="4174560" cy="287280"/>
            <a:chOff x="3564000" y="1916280"/>
            <a:chExt cx="4174560" cy="287280"/>
          </a:xfrm>
        </p:grpSpPr>
        <p:sp>
          <p:nvSpPr>
            <p:cNvPr id="99" name=""/>
            <p:cNvSpPr/>
            <p:nvPr/>
          </p:nvSpPr>
          <p:spPr>
            <a:xfrm>
              <a:off x="3564000" y="191628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95640" y="191628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27280" y="191628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59280" y="191628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90920" y="191628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22560" y="1916280"/>
              <a:ext cx="28728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56000" y="191628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88000" y="191628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19640" y="191628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51640" y="191628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783680" y="16286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B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162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0000" y="1628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162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1628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75640" y="162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720" y="16286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B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25080" y="16286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77960" y="16286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1628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64000" y="3933720"/>
            <a:ext cx="4174560" cy="287280"/>
            <a:chOff x="3564000" y="3933720"/>
            <a:chExt cx="4174560" cy="287280"/>
          </a:xfrm>
        </p:grpSpPr>
        <p:sp>
          <p:nvSpPr>
            <p:cNvPr id="120" name=""/>
            <p:cNvSpPr/>
            <p:nvPr/>
          </p:nvSpPr>
          <p:spPr>
            <a:xfrm>
              <a:off x="3564000" y="393372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95640" y="393372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27280" y="393372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59280" y="393372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90920" y="393372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22560" y="3933720"/>
              <a:ext cx="28728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56000" y="393372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88000" y="393372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9640" y="393372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51640" y="3933720"/>
              <a:ext cx="286920" cy="28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783680" y="422100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422100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80000" y="42210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422100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43640" y="42210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5640" y="422100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5280" y="4221000"/>
            <a:ext cx="47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3280" y="4221000"/>
            <a:ext cx="47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R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4221000"/>
            <a:ext cx="865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RE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08720" y="42210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7640" y="256536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640" y="386064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C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720" y="328464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92720" y="328464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03160" y="445464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4000" y="198900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83640" y="22766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15280" y="22766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83640" y="3573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15280" y="3573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604720" y="35002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604720" y="21337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22766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22766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3573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3573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280" y="35002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280" y="21337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2952000" y="3536280"/>
            <a:ext cx="216000" cy="2449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5976000" y="3536280"/>
            <a:ext cx="216000" cy="2449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8369280" y="4202280"/>
            <a:ext cx="216000" cy="1117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800 h 1117440"/>
              <a:gd name="textAreaBottom" fmla="*/ 1088640 h 111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630000" y="4201920"/>
            <a:ext cx="216000" cy="11178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160 h 1117800"/>
              <a:gd name="textAreaBottom" fmla="*/ 1088640 h 111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78920" y="4869000"/>
            <a:ext cx="173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ISPLAY 0 (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A LIGHT C-27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17840" y="4869000"/>
            <a:ext cx="172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ISPLAY 1 (C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A LIGHT A-257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94200" y="4869000"/>
            <a:ext cx="173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ISPLAY 2 (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A LIGHT C-27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1800" y="4869000"/>
            <a:ext cx="172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ISPLAY 3 (C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A LIGHT A-257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0720" y="6381720"/>
            <a:ext cx="435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en from the solder side (ATtiny2313 mounted on the solder side as we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2276640"/>
            <a:ext cx="3744720" cy="1584000"/>
          </a:xfrm>
          <a:custGeom>
            <a:avLst/>
            <a:gdLst/>
            <a:ahLst/>
            <a:rect l="l" t="t" r="r" b="b"/>
            <a:pathLst>
              <a:path w="2359" h="998">
                <a:moveTo>
                  <a:pt x="0" y="0"/>
                </a:moveTo>
                <a:lnTo>
                  <a:pt x="0" y="227"/>
                </a:lnTo>
                <a:lnTo>
                  <a:pt x="181" y="331"/>
                </a:lnTo>
                <a:lnTo>
                  <a:pt x="181" y="590"/>
                </a:lnTo>
                <a:lnTo>
                  <a:pt x="0" y="694"/>
                </a:lnTo>
                <a:lnTo>
                  <a:pt x="0" y="998"/>
                </a:lnTo>
                <a:lnTo>
                  <a:pt x="2359" y="998"/>
                </a:lnTo>
                <a:lnTo>
                  <a:pt x="2359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2276640"/>
            <a:ext cx="2449440" cy="15840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2276640"/>
            <a:ext cx="2449440" cy="15840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276640"/>
            <a:ext cx="790560" cy="1584000"/>
          </a:xfrm>
          <a:custGeom>
            <a:avLst/>
            <a:gdLst/>
            <a:ahLst/>
            <a:rect l="l" t="t" r="r" b="b"/>
            <a:pathLst>
              <a:path w="498" h="998">
                <a:moveTo>
                  <a:pt x="0" y="998"/>
                </a:moveTo>
                <a:lnTo>
                  <a:pt x="498" y="998"/>
                </a:lnTo>
                <a:lnTo>
                  <a:pt x="49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69696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0800000">
            <a:off x="7885080" y="2276640"/>
            <a:ext cx="790560" cy="1584000"/>
          </a:xfrm>
          <a:custGeom>
            <a:avLst/>
            <a:gdLst/>
            <a:ahLst/>
            <a:rect l="l" t="t" r="r" b="b"/>
            <a:pathLst>
              <a:path w="498" h="998">
                <a:moveTo>
                  <a:pt x="0" y="998"/>
                </a:moveTo>
                <a:lnTo>
                  <a:pt x="498" y="998"/>
                </a:lnTo>
                <a:lnTo>
                  <a:pt x="49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69696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2255760"/>
            <a:ext cx="3081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92720" y="2255760"/>
            <a:ext cx="3081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4360" y="2255760"/>
            <a:ext cx="3081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56360" y="2255760"/>
            <a:ext cx="3078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2255760"/>
            <a:ext cx="3081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2255760"/>
            <a:ext cx="3078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20000" y="3598560"/>
            <a:ext cx="307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88000" y="3598560"/>
            <a:ext cx="308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56360" y="3598560"/>
            <a:ext cx="307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51640" y="3598560"/>
            <a:ext cx="433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3598560"/>
            <a:ext cx="4334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88000" y="3598560"/>
            <a:ext cx="4334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4861080" y="2276640"/>
            <a:ext cx="790560" cy="1584000"/>
          </a:xfrm>
          <a:custGeom>
            <a:avLst/>
            <a:gdLst/>
            <a:ahLst/>
            <a:rect l="l" t="t" r="r" b="b"/>
            <a:pathLst>
              <a:path w="498" h="998">
                <a:moveTo>
                  <a:pt x="0" y="998"/>
                </a:moveTo>
                <a:lnTo>
                  <a:pt x="498" y="998"/>
                </a:lnTo>
                <a:lnTo>
                  <a:pt x="49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69696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2255760"/>
            <a:ext cx="3078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2255760"/>
            <a:ext cx="3081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00360" y="2255760"/>
            <a:ext cx="3078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2255760"/>
            <a:ext cx="3081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64000" y="2255760"/>
            <a:ext cx="3078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95640" y="2255760"/>
            <a:ext cx="3081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5640" y="3598560"/>
            <a:ext cx="308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64000" y="3598560"/>
            <a:ext cx="307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3598560"/>
            <a:ext cx="308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3598560"/>
            <a:ext cx="4334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3598560"/>
            <a:ext cx="4334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63640" y="3598560"/>
            <a:ext cx="4334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2255760"/>
            <a:ext cx="3081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71640" y="2255760"/>
            <a:ext cx="3078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598560"/>
            <a:ext cx="307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3598560"/>
            <a:ext cx="308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83640" y="2255760"/>
            <a:ext cx="3078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17080" y="2255760"/>
            <a:ext cx="3078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90000" tIns="90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44000" y="3598560"/>
            <a:ext cx="4334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12000" y="3598560"/>
            <a:ext cx="4334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64000" y="3960720"/>
            <a:ext cx="307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97440" y="3960720"/>
            <a:ext cx="307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29080" y="3960720"/>
            <a:ext cx="308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61080" y="3960720"/>
            <a:ext cx="307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3960720"/>
            <a:ext cx="308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3960720"/>
            <a:ext cx="308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3960720"/>
            <a:ext cx="307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88000" y="3960720"/>
            <a:ext cx="308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20000" y="3960720"/>
            <a:ext cx="307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80360" y="3960720"/>
            <a:ext cx="4316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80360" y="1942920"/>
            <a:ext cx="4316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48360" y="1942920"/>
            <a:ext cx="4320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16720" y="1942920"/>
            <a:ext cx="4316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1942920"/>
            <a:ext cx="4320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51640" y="1942920"/>
            <a:ext cx="4316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19640" y="1942920"/>
            <a:ext cx="4320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1942920"/>
            <a:ext cx="4316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56000" y="1942920"/>
            <a:ext cx="4320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1942920"/>
            <a:ext cx="4316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1942920"/>
            <a:ext cx="4320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00:29:32Z</dcterms:created>
  <dc:creator>Marco "Kiko" Carnut</dc:creator>
  <dc:description/>
  <dc:language>en-US</dc:language>
  <cp:lastModifiedBy>Marco "Kiko" Carnut</cp:lastModifiedBy>
  <dcterms:modified xsi:type="dcterms:W3CDTF">2007-06-09T19:01:55Z</dcterms:modified>
  <cp:revision>16</cp:revision>
  <dc:subject/>
  <dc:title>Slide 1</dc:title>
</cp:coreProperties>
</file>